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36512D-FF3D-4871-98B9-7A81B9BCCA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AF6E0D-0D2F-47AE-99E7-760F32BF4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5F7228-5601-4105-8902-D3203445D3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1D3F51-3909-4916-AE49-CA6640F9A4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8C21C-3FA3-479A-9F0E-3ECEB8A9E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8572D-723F-4002-890B-0DBF8AE83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538AC-2CAA-407B-8E15-BEB379FD1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2B53C-4435-43DD-B2B6-EFD2D58C4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9EB0B-D74A-4581-A63A-D7E2CD2DC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B1832-C971-42DE-BD5D-7964F92CD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4C27A-5035-465D-A9FE-713BC5E7B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115847-4270-49AB-998E-F4E8D2A4E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11132-5983-4DED-8E00-8F6E9883E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CF518-B9AC-4F70-B74C-9B240DB8E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7E089-2279-409C-A5AE-40B081E2C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80EA0-046F-4FD3-86B9-E99929DEF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6B22D-3772-45B7-8AD8-9B81B9E29B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CB7CA9-A565-45D6-986B-038D90F9A2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CC0453-66AA-491A-9AAE-1692343DA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049BD9-B9C0-4125-9E2E-1CC7232C0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210082-B8FE-49E3-8070-1747B4BCE5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07B3E8-04AA-4D06-88B3-8520E6F9A0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755BDC-FA31-42A0-9373-5E8D80F59F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56FA5F-991C-42D3-B54C-DC11CC3AD49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C89C8-6A49-4F8B-8628-E5B8ADCDC4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9B2C1-1CC8-4F94-95B1-B71AC61D47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oftware Defects - II</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3</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BFA93B2-DBCF-42A0-B249-73D181F5D4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ilosophy of Defect Prevention - 1</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uman misconceptions are the error sources, education and training can help us remove these error source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mprecise designs and implementations that deviate from product specifications or design intentions are the causes for faults, formal methods can help us prevent such devia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B62438-C3A0-4214-9F74-5106245763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ilosophy of Defect Prevention - 2</a:t>
            </a:r>
            <a:endParaRPr b="0" lang="en-US" sz="40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n-conformance to selected processes or standards is the problem that leads to fault injections, then process conformance or standard enforcement can help use prevent the injection of related faul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ertain tools or technologies can reduce fault injections under similar environments, they should be adop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5C889B-534A-4923-9A59-BAEC6F7938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ucation and Training - 1</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 and training provide people-based solutions for error source elimin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factor is the most important factor that determines the quality and, ultimately, the success or failure of most software projec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2425D2-49D5-4F52-BE50-F651DA1B1F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ucation and Training - 2</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 and training of software professionals can help them control, manage, and improve the way they 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0D9A39-4DBA-4095-8809-E860E03E60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cus of Education &amp; Training</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and domain specific knowledg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development knowledge and expertis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about Development methodology, technology, and too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process knowledg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C6E307-44B8-41EA-B1DB-9035C5BFE6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duct and Domain Specific Knowledge</a:t>
            </a:r>
            <a:endParaRPr b="0" lang="en-US" sz="40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eople involved are not familiar with the product type or application domain, there is a good chance that wrong solutions will be implemen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B84946-7E1D-422B-A5AE-449005B7BD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ftware Development Knowledge and Expertise</a:t>
            </a:r>
            <a:endParaRPr b="0" lang="en-US" sz="40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Have good discussion on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218CB1-98F0-47EA-9739-C07022A01B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ledge about Development Methodology, Technology, and Tools</a:t>
            </a:r>
            <a:endParaRPr b="0" lang="en-US" sz="40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Have good discussion on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FE12FC-DD50-4947-A36F-11BD7E8D5A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Process Knowledge</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Have good discussion on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58BDB8-9072-487B-AB00-84EF94621B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Methods</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methods provide a way to eliminate certain error sources and to verify the absence of related faul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methods includ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specific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verific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29F2F4-7793-4EC9-BB6D-7A234A7AFB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Lecture</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with a couple of topics related to defect remov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prevention and defect prevention techniq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a good discussion on this topic before jumping directly on to the topic</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F29363-B62B-4E71-8481-401B84E5B5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Specification</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specification is concerned with producing an unambiguous set of product specifications so that customer requirements, as well as environmental constraints and design intentions, are correctly reflected, thus reducing the chances of accidental fault injec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14F8AC-DC3E-43BC-BAB4-1D5027D153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Verifications</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verification checks the conformance of software design or code against these formal specifications, thus ensuring that the software is fault free with respect to its formal specifica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5D3DFC-740E-4929-8DE0-1A92986D3E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 number of formal method approaches. The oldest and most influential formal method is the so-called axiomatic approach</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earch in this area is on-going and depending on the real need of the software applications, formal methods are being us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497BFA-066A-4C50-A9E7-D9F9424007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ggest obstacle to formal methods is the high cost associated with the difficult task of performing these human intensive activities correctly without adequate automated support</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fact also explains, to a degree, the increasing popularity of limited scope and semi-formal approach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0BFD37-C871-49D7-AB83-B4F8CB1061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Defect Prevention Approaches</a:t>
            </a:r>
            <a:endParaRPr b="0" lang="en-US" sz="40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requirements analysis, i.e., JAD</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risk-analysis early in the development</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typing</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programming method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ied reusable design and code compon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AC7BD7-E647-4BAE-9403-A68557AA48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Defect Prevention</a:t>
            </a:r>
            <a:endParaRPr b="0" lang="en-US" sz="4400" spc="-1" strike="noStrike">
              <a:solidFill>
                <a:srgbClr val="000000"/>
              </a:solidFill>
              <a:latin typeface="Arial"/>
            </a:endParaRPr>
          </a:p>
        </p:txBody>
      </p:sp>
      <p:graphicFrame>
        <p:nvGraphicFramePr>
          <p:cNvPr id="155" name=""/>
          <p:cNvGraphicFramePr/>
          <p:nvPr/>
        </p:nvGraphicFramePr>
        <p:xfrm>
          <a:off x="765000" y="1606680"/>
          <a:ext cx="7769520" cy="4741560"/>
        </p:xfrm>
        <a:graphic>
          <a:graphicData uri="http://schemas.openxmlformats.org/presentationml/2006/ole">
            <p:oleObj progId="Word.Document.12" r:id="rId1" spid="">
              <p:embed/>
              <p:pic>
                <p:nvPicPr>
                  <p:cNvPr id="156" name="" descr=""/>
                  <p:cNvPicPr/>
                  <p:nvPr/>
                </p:nvPicPr>
                <p:blipFill>
                  <a:blip r:embed="rId2"/>
                  <a:stretch/>
                </p:blipFill>
                <p:spPr>
                  <a:xfrm>
                    <a:off x="765000" y="1606680"/>
                    <a:ext cx="7769520" cy="4741560"/>
                  </a:xfrm>
                  <a:prstGeom prst="rect">
                    <a:avLst/>
                  </a:prstGeom>
                  <a:ln w="0">
                    <a:noFill/>
                  </a:ln>
                </p:spPr>
              </p:pic>
            </p:oleObj>
          </a:graphicData>
        </a:graphic>
      </p:graphicFrame>
      <p:sp>
        <p:nvSpPr>
          <p:cNvPr id="3" name="PlaceHolder 2"/>
          <p:cNvSpPr>
            <a:spLocks noGrp="1"/>
          </p:cNvSpPr>
          <p:nvPr>
            <p:ph type="sldNum" idx="2"/>
          </p:nvPr>
        </p:nvSpPr>
        <p:spPr/>
        <p:txBody>
          <a:bodyPr/>
          <a:p>
            <a:fld id="{B4F1CD77-1A77-403A-A72F-E0A81FADFA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oday’s lecture, we talked about defect prevention and defect prevention techniqu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iscussed the approaches to eliminating these defec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A46A3D-8AF3-4435-A3EB-8488211BB7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Quality: Analysis and Guidelines for Success by Capers J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Quality Engineering: Testing, Quality Assurance, and Quantifiable Improvement by Jeff Ti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53FBF3-75DE-435A-B07B-BD981AE55846}"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Repair Rates - 1</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ed data on defect repair rates is not consistent</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repair rates usually decline as cyclomatic and essential complexity increases</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repair rates increase with experience in application, language, inspections, structured design and coding metho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A2EFEE-6D83-449A-A48A-ABB1EA446D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Repair Rates - 2</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repair rates are higher for maintenance specialists than others during maintenance phas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oding errors, they correlate with comment density.  IBM’s study concluded that 18% comment density is ideal</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lso found, flow charts had no impact, but good error messages had great impa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56AA88-6051-45E1-B6B6-A2CA89CAEB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Seeding</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ful insertion of errors into a software deliverable prior to a review, inspection, or testing activ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quickest way of determining defect removal efficienc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d unpleasant by man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6162B8-3DEE-4493-9727-3E175D2A37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Severity Levels</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software defect tracking systems include a multi-tier “severity level” sca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ity level 1: total failure of applic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ity level 2: failure of major func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ity level 3: minor proble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ity level 4: cosmetic probl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A6D9BB0-D597-4EE5-B8B5-E79652514A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Tracking</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use an accurate and automated defect tracking system</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tracking tools</a:t>
            </a:r>
            <a:endParaRPr b="0" lang="en-US" sz="32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ing defects by severity level and by origin</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g defects to appropriate repair facility</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ing records of duplicate defects</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 defects</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 information against defec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CE34DF-3EE0-4682-9222-31EA8C118A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fect Prevention</a:t>
            </a:r>
            <a:endParaRPr b="0" lang="en-US" sz="5000" spc="-1" strike="noStrike">
              <a:solidFill>
                <a:srgbClr val="ffffff"/>
              </a:solidFill>
              <a:latin typeface="Arial"/>
            </a:endParaRPr>
          </a:p>
        </p:txBody>
      </p:sp>
      <p:sp>
        <p:nvSpPr>
          <p:cNvPr id="12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427920A-BA4E-45EF-8708-8781A9A973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Prevention</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o not want defects or faults to enter our work products, requirements, design, code, or other docu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ry to eliminate the error sources in defect preven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prevention is very difficult to understand, study, and quantif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3B5541-F01A-41C4-8507-1E1CC7AC9F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09:03:38Z</dcterms:created>
  <dc:creator>Ghulam Ahmad Farrukh</dc:creator>
  <dc:description/>
  <dc:language>en-US</dc:language>
  <cp:lastModifiedBy>ahmadmohsin</cp:lastModifiedBy>
  <dcterms:modified xsi:type="dcterms:W3CDTF">2009-04-14T04:34:54Z</dcterms:modified>
  <cp:revision>213</cp:revision>
  <dc:subject/>
  <dc:title>Software Quality Management</dc:title>
</cp:coreProperties>
</file>